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2.pct" ContentType="image/x-pict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BF16-6EFE-4C05-98F3-2E458CEE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27E1-8BFA-44DB-9E9E-C92BA75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1C4C-8A1E-4F61-BE90-67B56194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9A33-ECA8-461C-832B-201C5B31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A180-82F0-47D1-A615-7D274ECF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64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47880" y="48070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410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64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447880" y="5444280"/>
            <a:ext cx="171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0177-0CA5-4E86-9E1B-1F98E0D5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5BDE-4874-480C-94D0-84F619D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D417-B48F-4152-8CA4-52762D76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03520" y="525600"/>
            <a:ext cx="5943600" cy="77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D6F7-2FF7-4116-B7A2-4A6CDFC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8CF3-CB67-4AF6-AF67-6328240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4520" y="54442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E70F-D646-4A3B-B5BC-74F384F5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4104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4520" y="4807080"/>
            <a:ext cx="2602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41040" y="5444280"/>
            <a:ext cx="5334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BD82-564E-4B4E-BD89-3A5593E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250920" cy="63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63400"/>
            <a:ext cx="250920" cy="6294600"/>
          </a:xfrm>
          <a:prstGeom prst="rect">
            <a:avLst/>
          </a:prstGeom>
          <a:solidFill>
            <a:srgbClr val="3b3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276f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60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601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33440" indent="-950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619280" indent="-954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0" y="5300640"/>
            <a:ext cx="179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669000"/>
            <a:ext cx="8893080" cy="189000"/>
          </a:xfrm>
          <a:prstGeom prst="rect">
            <a:avLst/>
          </a:prstGeom>
          <a:solidFill>
            <a:srgbClr val="072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6844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40840" y="558720"/>
            <a:ext cx="9720" cy="629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0920" y="6669000"/>
            <a:ext cx="889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150040" y="6669000"/>
            <a:ext cx="1006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1BA-7D28-4809-845D-1BCC4EF76A5C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/</a:t>
            </a: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356760" y="6668640"/>
            <a:ext cx="3600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686720" y="0"/>
            <a:ext cx="10382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03520" y="525600"/>
            <a:ext cx="5943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51" name=""/>
          <p:cNvSpPr/>
          <p:nvPr/>
        </p:nvSpPr>
        <p:spPr>
          <a:xfrm>
            <a:off x="963720" y="274464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Lucida Sans Unicode"/>
              </a:rPr>
              <a:t>Click to edit the outline text format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lvl="1" marL="476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Second Outline Level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857160" algn="ctr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Third Outline Level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238400" algn="ctr"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3880" algn="ctr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366480"/>
            <a:ext cx="7360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Sans Unicode"/>
              </a:rPr>
              <a:t>Coordinator’s report</a:t>
            </a:r>
            <a:endParaRPr b="1" lang="en-US" sz="4800" spc="-1" strike="noStrike">
              <a:solidFill>
                <a:srgbClr val="ffff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41040" y="480708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Huib van Langevelde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EXPReS board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Lucida Sans Unicode"/>
              </a:rPr>
              <a:t>Utrecht, 30 January, 2008</a:t>
            </a:r>
            <a:endParaRPr b="1" i="1" lang="en-US" sz="2400" spc="-1" strike="noStrike">
              <a:solidFill>
                <a:srgbClr val="ffff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re we getting what we wan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0040" y="3943440"/>
            <a:ext cx="3554280" cy="2666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1440" y="764640"/>
            <a:ext cx="87822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Yes! An opportunity to position VLBI for the next decad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 way to offer new scientific capa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upgrade path for VLBI in the fu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Larger bandwidth, more bit per sample 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3bff"/>
                </a:solidFill>
                <a:latin typeface="Lucida Sans Unicode"/>
              </a:rPr>
              <a:t>But not quite clear what the correlator for that should look lik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 opportunity to position e-VLBI as a SKA pathfinder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 good collaboration with suppliers of Network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Dynamic lightpaths prove importa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Pushing the requirements for Network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computing at some poi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uilding up expertis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momentum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And a reput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DE98-5329-4F59-988E-315A63424F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What’s next?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ere are 20 months left in EXPRe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f we extend the project for 6 month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an obvious EC call to continue our project in FP7 (yet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ybe a new call in late 2008 for 2009 start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But EC themes seem different from our ambitions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urrently a unique collaboration of Observatories &amp; NREN’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We should aim to continue this, who would disagree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Maybe involve more supercomputing/GRID in the future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keep our focus on (Global) e-VLBI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like to get some NRAO antennas involved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Or should it be about e-LOFAR and SKA as well?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Number of things to be addressed in future e-VLBI: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Light paths on demand, around the globe...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Buffering data at telescopes and correlator for robustnes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ake use of 10Gbps connectivity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Needs data acquisition system and correlator concept!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6F1C-0398-4177-A6B7-5302D632F1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9d6"/>
            </a:gs>
            <a:gs pos="100000">
              <a:srgbClr val="e5dd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79720" y="1662120"/>
            <a:ext cx="5479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Objective of this talk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Do discuss the progress in EXPReS from board perspective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has EXPReS managed to demonstrate so far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hat are the concerns with respect to progress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C getting what they contracted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re we going where we want to be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nd think beyond the EXPReS projec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ture of the project, future of e-VLBI, future of our collaboration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lation to other initiatives, telescop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 few words about JIVE....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Going through many personnel chang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 rot="840000">
            <a:off x="6729120" y="1464840"/>
            <a:ext cx="1814400" cy="76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y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ias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A9DF-BF46-4210-B316-19239E7AE2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7276f"/>
                </a:solidFill>
                <a:latin typeface="Lucida Sans Unicode"/>
              </a:rPr>
              <a:t>JIVE</a:t>
            </a:r>
            <a:endParaRPr b="1" lang="en-US" sz="2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599760"/>
            <a:ext cx="859140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EXPReS secretary Diana van Dijk lef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nternal transfer to AstroTech Holding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naged to arrange transition for the continuity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Yvonne Kool joined secretaria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Now employed as senior secreta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ll time job at JIVE, EXPReS among her responsibiliti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Zsolt Paragi will be Senior Support Scientis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Permanent position with JIV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fulfil e-VLBI scientist role for remainder of EXPRe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36800" indent="-18828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Checked with EC that this is still “eligible”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36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JIVE staffing situation has been tigh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Will still have opening in management structur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oU renewal negotiated, JIVE for 5 more years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59880" indent="-18828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Funding proposal for RadioNet of vital importance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0208-9D94-44CD-8EFE-D17A69D91D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24560" y="4140360"/>
            <a:ext cx="4316400" cy="25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has demonstrated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8718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That e-VLBI can be done reliably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nd at competitive sensitivity now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succesfully the old correlator and adopted the operational procedure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6 telescopes operational in Europe  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Operations favour dedicated lightpaths for robust performance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tinkering with the protocols (UDP)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And then we can get close to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Can even do intercontinental VLBI in real-time!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Overcame round-trip time problem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And even complex politic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9880" y="1782720"/>
            <a:ext cx="4164120" cy="182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43880" y="0"/>
            <a:ext cx="118584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9477-FA9B-4E00-BCD9-9CE9A52155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EXPReS demonstrated more...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51368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Various ways to proceed beyond current VLBI system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tarted iBoB development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Demonstrated working on distributed software correlator 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nomy can be done with this network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new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nd even spectral line science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7000" y="3468600"/>
            <a:ext cx="3056040" cy="303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27560" y="655560"/>
            <a:ext cx="39164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54080" y="4619520"/>
            <a:ext cx="2143080" cy="198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4A12-92CC-4119-BF69-75B615316A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Astronomy: spectral line science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33840" y="4030560"/>
            <a:ext cx="305928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11880" y="592200"/>
            <a:ext cx="2444760" cy="36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2360" y="2208240"/>
            <a:ext cx="4857840" cy="464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765000"/>
            <a:ext cx="582264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Astrometry of circumstellar ma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100000"/>
              </a:lnSpc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e-VLBI to get better time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chnically OK, demonstration 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Science goals not so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CAE2-FAD6-481B-BD56-3BFAFAC533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Keep the money flowing, yes we know!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Continuity of staffing is always a worry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A sense that internal communication is not optimal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Not to be remedied by e-collaboration tools as the review suggested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Technical issues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Make the transition to Mk5B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Is the e-MERLIN correlator going to be a bottleneck for FABRIC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nnectivity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Really, really like to have Effelsberg in the Network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Yebes when it is availabl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2" marL="104760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Ventspils when it is ready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ests with South-America and Afrika?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B844-530A-4CA6-A8CF-0AF51EC15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41840" y="3129120"/>
            <a:ext cx="4817880" cy="340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Concerns (cont)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914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Astronomy not yet the greatest success</a:t>
            </a:r>
            <a:endParaRPr b="1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till fail to attract large numbers of users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Poor sensitivity compared to disk recording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Effelsberg missing, not at 1 Gbps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Not providing longest baselin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Cannot yet offer China, Arecibo, South Africa operationally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66672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Confused by changing policies?</a:t>
            </a: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47600" indent="-19044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Policy now not very restrictive anymore, EVN board quite supportive</a:t>
            </a:r>
            <a:endParaRPr b="1" lang="en-US" sz="1400" spc="-1" strike="noStrike">
              <a:solidFill>
                <a:srgbClr val="3b3bff"/>
              </a:solidFill>
              <a:latin typeface="Lucida Sans Unicode"/>
            </a:endParaRPr>
          </a:p>
          <a:p>
            <a:pPr lvl="3" marL="1333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6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276f"/>
              </a:solidFill>
              <a:latin typeface="Lucida Sans Unicode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2968560"/>
            <a:ext cx="2776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Some frustration with inertia/conservatism of EVN 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I think this is as fast forward as we can g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Modified call for proposals advert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101520">
              <a:lnSpc>
                <a:spcPct val="90000"/>
              </a:lnSpc>
              <a:spcBef>
                <a:spcPts val="349"/>
              </a:spcBef>
              <a:buClr>
                <a:srgbClr val="3b3b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b3bff"/>
                </a:solidFill>
                <a:latin typeface="Lucida Sans Unicode"/>
              </a:rPr>
              <a:t>Deadline in 2 days, hard to predict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276f"/>
                </a:solidFill>
                <a:latin typeface="Lucida Sans Unicode"/>
              </a:rPr>
              <a:t>EC seems to await a “big discov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917C-2B8B-4253-BEF2-E04C478CD4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360"/>
            <a:ext cx="6910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7276f"/>
                </a:solidFill>
                <a:latin typeface="Lucida Sans Unicode"/>
              </a:rPr>
              <a:t>Satisfying EC contract</a:t>
            </a:r>
            <a:endParaRPr b="1" lang="en-US" sz="3200" spc="-1" strike="noStrike">
              <a:solidFill>
                <a:srgbClr val="0727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914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I think we are doing OK in year 2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But we noticed last year that the standard is quite high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1" marL="571680" indent="-88920"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7276f"/>
                </a:solidFill>
                <a:latin typeface="Lucida Sans Unicode"/>
              </a:rPr>
              <a:t>Think the PR activities with global connectivity helped</a:t>
            </a: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  <a:p>
            <a:pPr lvl="2" marL="1054080" indent="-190440">
              <a:spcBef>
                <a:spcPts val="400"/>
              </a:spcBef>
              <a:buClr>
                <a:srgbClr val="3b3bf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b3bff"/>
                </a:solidFill>
                <a:latin typeface="Lucida Sans Unicode"/>
              </a:rPr>
              <a:t>And we will do some more</a:t>
            </a:r>
            <a:endParaRPr b="1" lang="en-US" sz="1600" spc="-1" strike="noStrike">
              <a:solidFill>
                <a:srgbClr val="3b3bff"/>
              </a:solidFill>
              <a:latin typeface="Lucida Sans Unicode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7276f"/>
              </a:solidFill>
              <a:latin typeface="Lucida Sans Unico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52960" y="2770200"/>
            <a:ext cx="3710160" cy="2282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368280" y="2130480"/>
            <a:ext cx="450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Must be seen to take their considerations se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Regular monitor tool to measure operational bandwidth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Closer liaison with network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Explore QoS tools to get bett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Use more collaborative tools established else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76f"/>
                </a:solidFill>
                <a:latin typeface="Lucida Sans Unicode"/>
              </a:rPr>
              <a:t>Keep closer control on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buClr>
                <a:srgbClr val="07276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uib 28/1/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F1F8-BECA-4D9F-810C-A879D758C3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EXPReS board, Utrecht, Jan 3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cp:keywords/>
  <dc:language>en-US</dc:language>
  <cp:lastModifiedBy>Huib Jan van Langevelde</cp:lastModifiedBy>
  <dcterms:modified xsi:type="dcterms:W3CDTF">2008-01-29T09:24:24Z</dcterms:modified>
  <cp:revision>208</cp:revision>
  <dc:subject/>
  <dc:title>PowerPoint Presentation</dc:title>
</cp:coreProperties>
</file>